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11DD-FAFE-4B85-898D-899413A34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8B57-AB19-4614-811E-8ECE4759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0A5F-A244-4DCF-AA6F-23C8FE32E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BF25-E6E6-4840-B646-08B9849F9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0C0C-F449-4BD5-8BDA-A42CA210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5B20-2A6A-4AAF-BC0F-86E28BDD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ABF2-9A81-4BD3-BD4F-3539618B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37C2-6AA0-4E12-B002-2F63B8F7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1C58-5893-4299-AF72-D8C2E37E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37C9-5FD8-49DB-BE40-B3E8D09C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3338-1236-4228-AF79-21E01548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2879-536A-477A-BAF7-268CC0C9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33A2-EF15-4D83-B751-BBD1E1DB0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ICo Design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CE 3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nneth Ben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en Com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ick Lums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U Func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rror Adder/Subtr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bination of both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tilizes mode 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s overflow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xor-based shi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tilizes multiple supply vol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s modified comparator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arator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-defined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s user to select greater or lesser input to p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s equal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s for greater versatility of DSP in datapath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itional bran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ero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arator Schema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ign Metric Minimization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rror adder sizing (focus of desig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benefit: 12.5ns to 9.5ns (42% quadratic decrease from ripple carry desig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xor based shi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de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buffers at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ation adder/subtr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652µ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rategy (Con’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bits via PMOS, NMOS single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bits via transmissi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ric = T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* A * P, where P =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T * C * Vdd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gives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Arial"/>
              </a:rPr>
              <a:t>α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 * A * C * Vdd</a:t>
            </a:r>
            <a:r>
              <a:rPr b="0" lang="en-US" sz="2400" spc="-1" strike="noStrike" u="sng" baseline="30000">
                <a:solidFill>
                  <a:srgbClr val="ffffff"/>
                </a:solidFill>
                <a:uFillTx/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Vdd via Level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benefit: 31.08mW to 23.99mW (23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457200" y="495288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ign Metric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worst-case propogation delay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.67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case: Adding 0x7FFF and 0x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power consumption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3.99m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case: A alternating between 0xAAAA and 0x5555 every cycle, B constant at 0xAA55, measured over 8 total clock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calculated area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1,652µ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case: Addition of all transistor wid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 Metric Calculation: (9.67ns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(11,652µm) * (23.99mW) =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6139 *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01:25:43Z</dcterms:created>
  <dc:creator>ITC Labs and Classrooms</dc:creator>
  <dc:description/>
  <dc:language>en-US</dc:language>
  <cp:lastModifiedBy>Ben Combs</cp:lastModifiedBy>
  <dcterms:modified xsi:type="dcterms:W3CDTF">2008-04-29T16:18:40Z</dcterms:modified>
  <cp:revision>20</cp:revision>
  <dc:subject/>
  <dc:title>PICo Design Project</dc:title>
</cp:coreProperties>
</file>